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56EE8-B6FA-4841-BBDF-E4447D0E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902D4-571B-4F5A-8558-405AD42C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E82AD-D217-4188-B9D0-B9C936C0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65FA3-B271-4650-A7FF-0F9DAC60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CA42-A80E-4FEA-992A-2E97FB1A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F50C-93DC-4C8E-91BF-68C05B13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78C8-A725-4D12-9A84-96F6B4AC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C96C-80D1-4A56-90D0-46E409D8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441D-54D9-4B15-B875-4D6C7D68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B31D-5692-46DF-B7FE-2642E54E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8139-4E4B-42E2-AB28-0CD287B6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A04DD-6D0E-40C8-BEFF-F546F187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15AF-9949-48BF-A300-F029608C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C7DC-5877-4F3F-B744-C044384F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BF5F-5875-4A00-8CD6-0DAABF3A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B394-D3E9-44D2-BB62-4812647B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C874-A75B-4ABF-9804-88A114F7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232D4-A9D0-4C7F-813B-5491CD01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8A64E-A1C2-4944-B6DE-EF10B231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E2A9C-9016-40AE-B773-5FDDA6D2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6F82B-AA31-49C6-A527-E186652A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B62A1-6795-4ED7-BE42-87CADAAB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4AEE8-F1E7-41CC-A490-B0F7D60B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751AB-0F45-45E9-9118-7B8ACDAE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EDB2-D349-4866-9871-B425E1B9577B}" type="slidenum">
              <a:rPr b="0" lang="en-A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7129-BB4F-49AC-BCC1-7C8928F77766}" type="slidenum">
              <a:rPr b="0" lang="en-A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Economic Syst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27" name="SmartArt Placeholder 2054"/>
          <p:cNvGrpSpPr/>
          <p:nvPr/>
        </p:nvGrpSpPr>
        <p:grpSpPr>
          <a:xfrm>
            <a:off x="395280" y="1557360"/>
            <a:ext cx="8208360" cy="4462560"/>
            <a:chOff x="395280" y="1557360"/>
            <a:chExt cx="8208360" cy="4462560"/>
          </a:xfrm>
        </p:grpSpPr>
        <p:cxnSp>
          <p:nvCxnSpPr>
            <p:cNvPr id="128" name="_s1028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489280" y="2351880"/>
              <a:ext cx="893160" cy="2873520"/>
            </a:xfrm>
            <a:prstGeom prst="bentConnector3">
              <a:avLst>
                <a:gd name="adj1" fmla="val 4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1029"/>
            <p:cNvCxnSpPr>
              <a:stCxn id="132" idx="0"/>
              <a:endCxn id="130" idx="2"/>
            </p:cNvCxnSpPr>
            <p:nvPr/>
          </p:nvCxnSpPr>
          <p:spPr>
            <a:xfrm rot="16200000">
              <a:off x="4052880" y="3788640"/>
              <a:ext cx="893160" cy="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1030"/>
            <p:cNvCxnSpPr>
              <a:stCxn id="134" idx="0"/>
              <a:endCxn id="130" idx="2"/>
            </p:cNvCxnSpPr>
            <p:nvPr/>
          </p:nvCxnSpPr>
          <p:spPr>
            <a:xfrm flipH="1" flipV="1" rot="5400000">
              <a:off x="2616480" y="2352240"/>
              <a:ext cx="893160" cy="2873160"/>
            </a:xfrm>
            <a:prstGeom prst="bentConnector3">
              <a:avLst>
                <a:gd name="adj1" fmla="val 4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0" name="_s1031"/>
            <p:cNvSpPr/>
            <p:nvPr/>
          </p:nvSpPr>
          <p:spPr>
            <a:xfrm>
              <a:off x="3268080" y="155736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66"/>
                  </a:solidFill>
                  <a:latin typeface="Arial"/>
                </a:rPr>
                <a:t>Definition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1032"/>
            <p:cNvSpPr/>
            <p:nvPr/>
          </p:nvSpPr>
          <p:spPr>
            <a:xfrm>
              <a:off x="395280" y="42350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66"/>
                  </a:solidFill>
                  <a:latin typeface="Arial"/>
                </a:rPr>
                <a:t>Four function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033"/>
            <p:cNvSpPr/>
            <p:nvPr/>
          </p:nvSpPr>
          <p:spPr>
            <a:xfrm>
              <a:off x="3268080" y="42350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66"/>
                  </a:solidFill>
                  <a:latin typeface="Arial"/>
                </a:rPr>
                <a:t>Functions Fulfilled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1034"/>
            <p:cNvSpPr/>
            <p:nvPr/>
          </p:nvSpPr>
          <p:spPr>
            <a:xfrm>
              <a:off x="6141240" y="42350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66"/>
                  </a:solidFill>
                  <a:latin typeface="Arial"/>
                </a:rPr>
                <a:t>Types of System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Subsistence Econom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ll decisions are made at a tribal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 commercial activ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elf-sufficiency is promo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asic human needs are met, methods of production are simple and labour intens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ustom/culture is a major factor in economic decision making and property ownershi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Activit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rite a paragraph describing how a planned economy and a market economy diff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MCj02505190000[1]"/>
          <p:cNvPicPr/>
          <p:nvPr/>
        </p:nvPicPr>
        <p:blipFill>
          <a:blip r:embed="rId1"/>
          <a:stretch/>
        </p:blipFill>
        <p:spPr>
          <a:xfrm>
            <a:off x="2700360" y="2565360"/>
            <a:ext cx="381636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Activity: Categorising Countrie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Draw a diagram that illustrates two dimensions of economic organisation and development.  The horizontal dimension is the degree of government involvement.  The vertical dimension concerns the level of technological advance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Locate the following countries on the diagram in terms of where they would best f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66"/>
                </a:solidFill>
                <a:latin typeface="Tahoma"/>
                <a:ea typeface="Arial"/>
              </a:rPr>
              <a:t>USA; Japan; Germany; Sweden; Britain; Australia; Greece; India; China; Cuba; N. Korea and Ugan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Defini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way in which a nation deals with the economic problem.  It is a system that is established in order to allocate and distribute resources for production in order to meet nee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Four function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to produ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How to produ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How much to produ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For whom to produ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Functions Fulfille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ice mech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vernment deci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Mixture of bo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radition or cus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Four types of Economic Syst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Market or unplanned ec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ommand or planned ec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Mixed or semi-planned ec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ubsistence ec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Think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do we need an economic syste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MCj01505630000[1]"/>
          <p:cNvPicPr/>
          <p:nvPr/>
        </p:nvPicPr>
        <p:blipFill>
          <a:blip r:embed="rId1"/>
          <a:stretch/>
        </p:blipFill>
        <p:spPr>
          <a:xfrm>
            <a:off x="3132000" y="2421000"/>
            <a:ext cx="338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Unplanned/Market Econom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ll economic decisions are made by private individuals or grou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 government involv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ll property is privately owned, resource allocation and production is totally determined by pr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ofit is the motive behind all economic activ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Planned/Command Econom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ll decisions are made by a central planning authority (governmen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 private sec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ll property is owned by the government and decisions are not price or profit motiva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Mixed/Semi-planned Econom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Mixture of both government and private economic activity.  Actual mix will vary from country to count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 the real world, all economies are of this typ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2:16:41Z</dcterms:created>
  <dc:creator>hinks.russell</dc:creator>
  <dc:description/>
  <dc:language>en-US</dc:language>
  <cp:lastModifiedBy>Alison Taylor</cp:lastModifiedBy>
  <dcterms:modified xsi:type="dcterms:W3CDTF">2012-10-23T05:43:52Z</dcterms:modified>
  <cp:revision>4</cp:revision>
  <dc:subject/>
  <dc:title>Economic Systems</dc:title>
</cp:coreProperties>
</file>